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794-4425-426B-946A-81962D13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55F-476B-4937-9DA0-2F699D38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2D3-5A54-4596-8C67-C410BB43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1ED-1ACF-466F-96B4-FDA5395A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8B2-A5B5-4BAC-9CB2-9939A508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9ED-9548-4CE8-9A80-C8D79541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8A4-808A-42BB-B5F3-94B26CD1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B5F-DB1C-4854-AFE0-FE946106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196-F3CC-49BF-A5E3-8B79F03C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120-BA26-431E-8EEA-EFCFE64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8D5-5914-4FCC-97F5-C857F8BE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9EB-0F31-4245-8FD3-69580616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7613-BFF7-4AF2-A8F2-30F3A391A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" y="685800"/>
            <a:ext cx="62946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3:47:42Z</dcterms:created>
  <dc:creator>nw sd</dc:creator>
  <dc:description/>
  <dc:language>en-US</dc:language>
  <cp:lastModifiedBy>nw sd</cp:lastModifiedBy>
  <dcterms:modified xsi:type="dcterms:W3CDTF">2009-01-30T13:59:33Z</dcterms:modified>
  <cp:revision>2</cp:revision>
  <dc:subject/>
  <dc:title>PowerPoint Presentation</dc:title>
</cp:coreProperties>
</file>